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F0F5-F29B-447C-8DBE-8323F8B5A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2F67-4830-4986-9846-28B04B51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D057-7075-48F0-8BC1-C873906B1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A3C2-46D4-4B1A-8A0C-754087549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7EA9-70E2-412C-8DAD-E6EDD4E5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4F22-41D1-4B0C-ACF8-47464485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F1C2-4FD4-4D77-946E-93D47B57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E247-B3A4-4C09-B674-1B384AEE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2297-6025-48DA-A067-F8F3B11F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3381-F2B2-49F0-B8B4-4844B82F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70D2-4784-4959-8DE6-59B5CC67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891B-FBE5-4FB8-87BD-76821837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AD35-782B-4274-8858-0EF981CA9D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wanda.williams\My Documents\My Pictures\Microsoft Clip Organizer\j032374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76440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2"/>
          <p:cNvSpPr/>
          <p:nvPr/>
        </p:nvSpPr>
        <p:spPr>
          <a:xfrm rot="16200000">
            <a:off x="4197960" y="2654640"/>
            <a:ext cx="4729320" cy="367668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Ebenezer scroo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Darkness was cheap, and scrooge liked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R.i.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C:\Documents and Settings\wanda.williams\Local Settings\Temporary Internet Files\Content.IE5\LX2YN4OC\MCBD07752_0000[1]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 rot="16200000">
            <a:off x="5598000" y="3164400"/>
            <a:ext cx="3662640" cy="266724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lies a humble Scroo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op Hallo Whoop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.I.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25:11Z</dcterms:created>
  <dc:creator>wanda.williams</dc:creator>
  <dc:description/>
  <dc:language>en-US</dc:language>
  <cp:lastModifiedBy>Ken Robinson</cp:lastModifiedBy>
  <dcterms:modified xsi:type="dcterms:W3CDTF">2011-12-02T12:41:17Z</dcterms:modified>
  <cp:revision>8</cp:revision>
  <dc:subject/>
  <dc:title>Slide 1</dc:title>
</cp:coreProperties>
</file>